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7A0B-8048-462A-B2DC-B90F82D4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727D-0B3F-4618-A9E8-9D132300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8CC1-EE32-4AF4-8015-8D4896DA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B1E5-CCB0-4E2F-92AC-C3A53BA3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601-2991-4097-B277-1CAB4F2F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E6D-9ECD-489C-A4FA-EECF9C2C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3201-1C75-4B44-AA20-4B00399B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FBB-0A1B-48D5-84AC-F76E8BD4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DFA-D745-4441-B99A-48803449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F8D-BA51-4552-BAA2-37F1837F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CDF6-5B3B-4C05-B2E7-FDCDBD43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304-77DA-4A8F-93C6-6A77CA05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208B-1CBB-454C-B9DB-3043372855E0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76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Bükki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Bükki Nemzeti Park Magyarország legnagyobb hegyvidéki, erdős nemzeti park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áltozatos területén igen gazdag növényvilág figyelhető meg, az itt előforduló állatfajok száma 22 ezer körü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nemzeti park 43 ezer hektáros területéből 5730 hektár fokozottan védet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97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una-Ipoly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 Duna-Ipoly Nemzeti Park Budapesttől északi irányban, a Pilis és a Börzsöny hegység nagyobb részén, a Duna és az Ipoly folyók között helyezkedik 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több mint 60 ezer hektárnyi terület egyediségét a folyóvölgyek, a hegységek és a síkság találkozása adja. Legszebb vidéke a Dunakanyar, amely a folyónak a Börzsöny és a Visegrádi-hegység közötti, több ezer éve lezajlott áttörésének helyszí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Dunán kialakult kisebb-nagyobb szigetek Esztergom és Budapest között szintén részei a nemzeti parknak.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96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una-Dráva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Duna-Dráva Nemzeti Park a Dél-Dunántúl térségéből 49 478 hektárnyi területet fog egy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ülönösen értékes élőhelyek védetté nyilvánításának céljául a folyók, mellékágrendszerük, valamint az érintett területek természeti értékeinek, a felszíni és felszín alatti vízkészleteknek, továbbá az érintett területek erdeinek, termőtalajának és más, megújuló természeti erőforrásainak védelmét jelölték me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85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ggteleki Nemzeti Pa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Aggteleki-karszt vidékén alapított Aggteleki Nemzeti Park több mint 20 ezer hektáros területe különleges természeti értékeket vé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egismertebb az a barlangrendszer, amely - a Szlovák-karszt barlangjaival együtt - 1995-től a Világörökség rés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élőlények védelmén túl a nemzeti park hivatott az egész táj képének fenntartására.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75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iskunsági Nemzeti Pa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iskunsági Nemzeti Parkban a természeti és néprajzi értékek együttese figyelhető me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48 ezer hektárnyi területű parkban 23 ezer hektár bioszféra rezervát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t nagy halastórendszere - a Fehér-tó és a Csaj-tó - madárvilágáról hí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91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rtő-Hanság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Magyarország és Ausztria határán fekvő Fertő-Hanság Nemzeti Park az egykor hatalmas mocsár- és lápvilág egyedülálló növény- és állattani, tájképi, néprajzi és kultúrtörténeti értékeinek menedékhel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nemzeti park osztrák részét, az 1992-ben létrehozott, 9500 hektáros Nationalpark Neusiedler See-Seewinkel-t 1994-ben kapcsolták össze a 23 587 hektáros magyar területt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parkhoz tartozó Fertő-tó és környéke a Világörökség rész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97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Balaton-felvidéki Nemzeti Pa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Balaton-felvidéki Nemzeti Park a Balaton északi partvidékéhez kapcsolódva, nyugat felé egyre szélesedő sávban húzódik a Kis-Balaton térségé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Összterülete 56 997 hektár, melyből 10 471 hektár fokozott védelem alatt á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nemzeti park területi egységei: a Tihanyi-félsziget, a Pécselyi-medence, a Káli-medence, a  Tapolcai-medence és a tanúhegyek, Zala és Somogy megyében a Keszthelyi-hegység és a Kis-Balaton, továbbá a teljes Balaton-part és a Balaton öblei.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97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rös-Maros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örös-Maros Nemzeti Park a romániai hegységek lábától a Tiszáig húzódó, egyedi arculatú táj megmaradt értékeit igyekszik megőriz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ek jó része a vízhez kötődik: a Körösök és a Maros folyó vízrendszeréhez, az ártéri erdőkhöz, a Sárrét környéki mocsárfoltokho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51 125 hektárnyi területű nemzeti parkban a kardoskúti Fehér-tó és a Biharugrai halastavak vizes élőhelyeinek szerepe a madárvonulásban nemzetközileg is jelentős, a tájegység a Ramsari egyezmény hatálya alá tartozik.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73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Hortobágyi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 Hortobágyi Nemzeti Park az európai kontinens legnagyobb szikes pusztá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rülete 81 ezer hektá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hortobágyi puszta 1999 óta a Világörökség rész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2002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Őrségi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nemzeti parkot korábban az 1978-ban alapított Őrségi Tájvédelmi Körzetből, valamint a természet közeli állapotban lévő környező területekből alakították 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43 933 hektárnyi nemzeti parkból 3104 hektár fokozottan védet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 az ország legnyugatibb vidéke, ahol a népi hagyományok és szokások változatlan formában napjainkig megőrződtek.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9:07:58Z</dcterms:created>
  <dc:creator>Korosi_laptop</dc:creator>
  <dc:description/>
  <dc:language>en-US</dc:language>
  <cp:lastModifiedBy>Korosi_laptop</cp:lastModifiedBy>
  <dcterms:modified xsi:type="dcterms:W3CDTF">2008-05-18T19:08:29Z</dcterms:modified>
  <cp:revision>1</cp:revision>
  <dc:subject/>
  <dc:title>1976 Bükki Nemzeti Park</dc:title>
</cp:coreProperties>
</file>